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8A12-6673-4E3C-B6D2-BE3788916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419E-2729-46AD-8DFE-66C36551A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04920" y="533520"/>
            <a:ext cx="6248160" cy="468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342720" y="5462280"/>
            <a:ext cx="617220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57D4-AD1D-4A1A-AB0B-CE5EC54C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04920" y="533520"/>
            <a:ext cx="6248160" cy="468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42720" y="5462280"/>
            <a:ext cx="6172200" cy="33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AF2D-E557-41AB-944D-52BBDEDA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9344D-1F48-48F7-B4D0-FD4A79E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83CB8-A020-49F7-B27F-4AC419FE2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B749-D3D8-4B79-8C31-61D7C3D6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B3F8C-151E-4878-8E3F-F6D464E207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B12C7-B6D3-430E-AFBE-9259CC865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42A59-5F07-4D66-A440-8D564A5435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F5D75D-A714-446D-8560-74C86F6E97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ABFA8-5F6F-4FCC-99BC-4C2442061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BF9B4-1E00-477B-B1EF-8E912D8B3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14747B-1478-45AD-BC1D-CF4D0AE4B5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A6A4A-8792-4ED9-90A1-FD2B0F05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8E83F-965C-4E4C-B47A-EDD1D6C597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88C64-19D1-40F3-B71F-BDD2D2E561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C4D9D-537D-4652-897B-E1252B7166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5936B-C590-4CF4-A931-1B3EE401DB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93281-C670-48CE-954D-05781B38C7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F2D6B-6B26-418A-85B2-9BAD88A8B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60D75-5268-46E8-9307-FBD435D0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94478-619A-449B-AA75-B2751F9B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D2C5CF-DD17-405D-9D60-1712BA9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6F842F-F253-4D26-86BE-D93605D9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856F-BAA8-4348-AF21-3169D127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C557F-063E-4BE3-8A1C-E3BCF271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2333DE-BFCA-46AA-963C-078B42AA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7B5380-E56B-49E0-93C2-A7B27431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3AD5B-9403-4A93-A3E2-7FD3824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0A2CFF-7619-4C55-846C-61A40948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4C7954-6146-4BE4-9FC8-4F54DEAF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86104-9AD8-48B0-AEA0-4D4C0A213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FAF9-31DE-4D35-83D3-96498B8B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BB47-989A-4EBE-8D4C-02BD0A4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0560-8185-4DEB-8465-6B1DDDD9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FC999-75EF-4146-A371-6CD8054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41128-E117-46CE-9C19-CFD64D04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E15C5-8F2F-4E00-A169-56C0E014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2DD7-9984-4018-8EAA-0FAF12EC5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240" y="7920"/>
            <a:ext cx="9140760" cy="6850080"/>
            <a:chOff x="3240" y="792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6440" y="3548160"/>
              <a:ext cx="6392880" cy="3309840"/>
              <a:chOff x="2746440" y="354816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6440" y="420516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3280" y="424800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6920" y="531972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5720" y="354816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8520" y="368604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6880" y="213660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240" y="792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4"/>
          </p:nvPr>
        </p:nvSpPr>
        <p:spPr>
          <a:xfrm>
            <a:off x="3045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C20-A901-434B-8CB8-4F091972D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1E56-CD9A-4F1E-8840-A8DEE139C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en-US" sz="5400" spc="-1" strike="noStrike">
                <a:solidFill>
                  <a:srgbClr val="a69564"/>
                </a:solidFill>
                <a:latin typeface="Garamond"/>
              </a:rPr>
              <a:t>Learning and Achievement </a:t>
            </a:r>
            <a:br>
              <a:rPr sz="5400"/>
            </a:br>
            <a:endParaRPr b="1" lang="en-US" sz="5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388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b2500"/>
                </a:solidFill>
                <a:latin typeface="Garamond"/>
              </a:rPr>
              <a:t>School Libraries</a:t>
            </a:r>
            <a:endParaRPr b="0" lang="en-US" sz="4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cross the </a:t>
            </a:r>
            <a:br>
              <a:rPr sz="44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urriculum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37339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For All Students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65052-AB45-414F-AD5D-6FF1B8939CB8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3505320" y="762120"/>
            <a:ext cx="2409480" cy="2632680"/>
            <a:chOff x="3505320" y="762120"/>
            <a:chExt cx="2409480" cy="2632680"/>
          </a:xfrm>
        </p:grpSpPr>
        <p:sp>
          <p:nvSpPr>
            <p:cNvPr id="152" name=""/>
            <p:cNvSpPr/>
            <p:nvPr/>
          </p:nvSpPr>
          <p:spPr>
            <a:xfrm flipV="1">
              <a:off x="4699080" y="1335960"/>
              <a:ext cx="0" cy="20588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3505320" y="762120"/>
              <a:ext cx="2409480" cy="1250280"/>
              <a:chOff x="3505320" y="762120"/>
              <a:chExt cx="2409480" cy="1250280"/>
            </a:xfrm>
          </p:grpSpPr>
          <p:sp>
            <p:nvSpPr>
              <p:cNvPr id="154" name=""/>
              <p:cNvSpPr/>
              <p:nvPr/>
            </p:nvSpPr>
            <p:spPr>
              <a:xfrm>
                <a:off x="3505320" y="762120"/>
                <a:ext cx="2409480" cy="12502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634920" y="842400"/>
                <a:ext cx="2143080" cy="108396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Curriculum and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Instruction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5000760" y="2057400"/>
            <a:ext cx="4142880" cy="1250640"/>
            <a:chOff x="5000760" y="2057400"/>
            <a:chExt cx="4142880" cy="1250640"/>
          </a:xfrm>
        </p:grpSpPr>
        <p:sp>
          <p:nvSpPr>
            <p:cNvPr id="157" name=""/>
            <p:cNvSpPr/>
            <p:nvPr/>
          </p:nvSpPr>
          <p:spPr>
            <a:xfrm flipV="1">
              <a:off x="5000760" y="267804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16452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734160" y="2057400"/>
              <a:ext cx="2409480" cy="1250640"/>
              <a:chOff x="6734160" y="2057400"/>
              <a:chExt cx="2409480" cy="1250640"/>
            </a:xfrm>
          </p:grpSpPr>
          <p:sp>
            <p:nvSpPr>
              <p:cNvPr id="159" name=""/>
              <p:cNvSpPr/>
              <p:nvPr/>
            </p:nvSpPr>
            <p:spPr>
              <a:xfrm>
                <a:off x="6734160" y="20574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863760" y="21380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16452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Materials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4768560" y="3275280"/>
            <a:ext cx="2670120" cy="2493360"/>
            <a:chOff x="4768560" y="3275280"/>
            <a:chExt cx="2670120" cy="2493360"/>
          </a:xfrm>
        </p:grpSpPr>
        <p:sp>
          <p:nvSpPr>
            <p:cNvPr id="162" name=""/>
            <p:cNvSpPr/>
            <p:nvPr/>
          </p:nvSpPr>
          <p:spPr>
            <a:xfrm>
              <a:off x="4768560" y="3275280"/>
              <a:ext cx="1391040" cy="19029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029200" y="4518000"/>
              <a:ext cx="2409480" cy="1250640"/>
              <a:chOff x="5029200" y="4518000"/>
              <a:chExt cx="2409480" cy="1250640"/>
            </a:xfrm>
          </p:grpSpPr>
          <p:sp>
            <p:nvSpPr>
              <p:cNvPr id="164" name=""/>
              <p:cNvSpPr/>
              <p:nvPr/>
            </p:nvSpPr>
            <p:spPr>
              <a:xfrm>
                <a:off x="5029200" y="451800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158800" y="459864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ystem 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1371600" y="3199320"/>
            <a:ext cx="2631960" cy="2493000"/>
            <a:chOff x="1371600" y="3199320"/>
            <a:chExt cx="2631960" cy="2493000"/>
          </a:xfrm>
        </p:grpSpPr>
        <p:sp>
          <p:nvSpPr>
            <p:cNvPr id="167" name=""/>
            <p:cNvSpPr/>
            <p:nvPr/>
          </p:nvSpPr>
          <p:spPr>
            <a:xfrm flipH="1">
              <a:off x="2611800" y="3199320"/>
              <a:ext cx="1391760" cy="190224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1371600" y="4441680"/>
              <a:ext cx="2409480" cy="1250640"/>
              <a:chOff x="1371600" y="4441680"/>
              <a:chExt cx="2409480" cy="1250640"/>
            </a:xfrm>
          </p:grpSpPr>
          <p:sp>
            <p:nvSpPr>
              <p:cNvPr id="169" name=""/>
              <p:cNvSpPr/>
              <p:nvPr/>
            </p:nvSpPr>
            <p:spPr>
              <a:xfrm>
                <a:off x="1371600" y="4441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01200" y="4522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ssessmen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7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7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7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Vision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8B68-C8BF-47AE-B6D2-A40977348E2D}" type="slidenum">
              <a:t>2</a:t>
            </a:fld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228600" y="2209680"/>
            <a:ext cx="4215960" cy="1250640"/>
            <a:chOff x="228600" y="2209680"/>
            <a:chExt cx="4215960" cy="1250640"/>
          </a:xfrm>
        </p:grpSpPr>
        <p:sp>
          <p:nvSpPr>
            <p:cNvPr id="182" name=""/>
            <p:cNvSpPr/>
            <p:nvPr/>
          </p:nvSpPr>
          <p:spPr>
            <a:xfrm flipH="1" flipV="1">
              <a:off x="1549080" y="2830320"/>
              <a:ext cx="2895480" cy="603360"/>
            </a:xfrm>
            <a:prstGeom prst="line">
              <a:avLst/>
            </a:prstGeom>
            <a:ln w="2844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28600" y="2209680"/>
              <a:ext cx="2409480" cy="1250640"/>
              <a:chOff x="228600" y="2209680"/>
              <a:chExt cx="2409480" cy="1250640"/>
            </a:xfrm>
          </p:grpSpPr>
          <p:sp>
            <p:nvSpPr>
              <p:cNvPr id="184" name=""/>
              <p:cNvSpPr/>
              <p:nvPr/>
            </p:nvSpPr>
            <p:spPr>
              <a:xfrm>
                <a:off x="228600" y="2209680"/>
                <a:ext cx="2409480" cy="1250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58200" y="2290320"/>
                <a:ext cx="2143080" cy="10843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2743200" y="2209680"/>
            <a:ext cx="3656880" cy="1904400"/>
            <a:chOff x="2743200" y="2209680"/>
            <a:chExt cx="3656880" cy="1904400"/>
          </a:xfrm>
        </p:grpSpPr>
        <p:sp>
          <p:nvSpPr>
            <p:cNvPr id="187" name=""/>
            <p:cNvSpPr/>
            <p:nvPr/>
          </p:nvSpPr>
          <p:spPr>
            <a:xfrm>
              <a:off x="2743200" y="2209680"/>
              <a:ext cx="3656880" cy="1904400"/>
            </a:xfrm>
            <a:prstGeom prst="ellipse">
              <a:avLst/>
            </a:prstGeom>
            <a:gradFill rotWithShape="0">
              <a:gsLst>
                <a:gs pos="0">
                  <a:srgbClr val="bfbfa7"/>
                </a:gs>
                <a:gs pos="100000">
                  <a:srgbClr val="3939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39760" y="2332440"/>
              <a:ext cx="3252600" cy="1650960"/>
            </a:xfrm>
            <a:prstGeom prst="ellipse">
              <a:avLst/>
            </a:prstGeom>
            <a:gradFill rotWithShape="0">
              <a:gsLst>
                <a:gs pos="0">
                  <a:srgbClr val="393932"/>
                </a:gs>
                <a:gs pos="100000">
                  <a:srgbClr val="bfbfa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Vision for 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Information Literacy</a:t>
              </a:r>
              <a:br>
                <a:rPr sz="2000"/>
              </a:br>
              <a:r>
                <a:rPr b="1" lang="en-US" sz="2000" spc="-1" strike="noStrike">
                  <a:solidFill>
                    <a:srgbClr val="ffffe3"/>
                  </a:solidFill>
                  <a:latin typeface="Arial"/>
                </a:rPr>
                <a:t>Teaching and Learning</a:t>
              </a:r>
              <a:endParaRPr b="0" lang="en-US" sz="20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00160" y="166680"/>
            <a:ext cx="83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db6625"/>
                </a:solidFill>
                <a:latin typeface="Arial"/>
              </a:rPr>
              <a:t>Systemic School Library Improvement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6172200"/>
            <a:ext cx="236196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Garamond"/>
              </a:rPr>
              <a:t>Based on National Science Resource Center Reform Model </a:t>
            </a:r>
            <a:r>
              <a:rPr b="0" lang="en-US" sz="1400" spc="-1" strike="noStrike">
                <a:solidFill>
                  <a:srgbClr val="4b2500"/>
                </a:solidFill>
                <a:latin typeface="Garamond"/>
              </a:rPr>
              <a:t>© NSRC</a:t>
            </a:r>
            <a:endParaRPr b="0" lang="en-US" sz="1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17ADD-C39C-4EAB-A0F8-5F883D11DA3E}" type="slidenum">
              <a:t>3</a:t>
            </a:fld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838080"/>
            <a:ext cx="822960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Student Access to Information Specialists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3124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School Library Media Center in every schoo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Garamond"/>
              </a:rPr>
              <a:t>School Library Media Specialist in every Library Media Center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-77040" y="-57960"/>
            <a:ext cx="4245480" cy="1785240"/>
            <a:chOff x="-77040" y="-57960"/>
            <a:chExt cx="4245480" cy="1785240"/>
          </a:xfrm>
        </p:grpSpPr>
        <p:sp>
          <p:nvSpPr>
            <p:cNvPr id="194" name=""/>
            <p:cNvSpPr/>
            <p:nvPr/>
          </p:nvSpPr>
          <p:spPr>
            <a:xfrm flipH="1">
              <a:off x="1310760" y="515520"/>
              <a:ext cx="2857680" cy="256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-77040" y="-57960"/>
              <a:ext cx="2572560" cy="1785240"/>
              <a:chOff x="-77040" y="-57960"/>
              <a:chExt cx="2572560" cy="1785240"/>
            </a:xfrm>
          </p:grpSpPr>
          <p:sp>
            <p:nvSpPr>
              <p:cNvPr id="196" name=""/>
              <p:cNvSpPr/>
              <p:nvPr/>
            </p:nvSpPr>
            <p:spPr>
              <a:xfrm rot="20564400">
                <a:off x="39600" y="2631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0564400">
                <a:off x="164880" y="33768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FB2ED-2A06-4C88-9D92-B0EDB5030629}" type="slidenum">
              <a:t>4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Advocacy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Winning compliance </a:t>
            </a:r>
            <a:br>
              <a:rPr sz="4000"/>
            </a:b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in meeting Regulations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01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03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28C26-56D0-4A1D-BAD2-C9E89ADAF071}" type="slidenum">
              <a:t>5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b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Winning </a:t>
            </a:r>
            <a:br>
              <a:rPr sz="4000"/>
            </a:br>
            <a:r>
              <a:rPr b="1" lang="en-US" sz="4000" spc="-1" strike="noStrike">
                <a:solidFill>
                  <a:srgbClr val="a69564"/>
                </a:solidFill>
                <a:latin typeface="Garamond"/>
              </a:rPr>
              <a:t>Administrative Support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3047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Action Items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cus group: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27960" y="315360"/>
            <a:ext cx="4198680" cy="2003040"/>
            <a:chOff x="327960" y="315360"/>
            <a:chExt cx="4198680" cy="2003040"/>
          </a:xfrm>
        </p:grpSpPr>
        <p:sp>
          <p:nvSpPr>
            <p:cNvPr id="208" name=""/>
            <p:cNvSpPr/>
            <p:nvPr/>
          </p:nvSpPr>
          <p:spPr>
            <a:xfrm flipH="1">
              <a:off x="1721520" y="639360"/>
              <a:ext cx="2805120" cy="603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27960" y="315360"/>
              <a:ext cx="2601720" cy="2003040"/>
              <a:chOff x="327960" y="315360"/>
              <a:chExt cx="2601720" cy="2003040"/>
            </a:xfrm>
          </p:grpSpPr>
          <p:sp>
            <p:nvSpPr>
              <p:cNvPr id="210" name=""/>
              <p:cNvSpPr/>
              <p:nvPr/>
            </p:nvSpPr>
            <p:spPr>
              <a:xfrm rot="20143800">
                <a:off x="459360" y="745560"/>
                <a:ext cx="2338920" cy="114264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3d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20143800">
                <a:off x="584280" y="820800"/>
                <a:ext cx="2080080" cy="990720"/>
              </a:xfrm>
              <a:prstGeom prst="ellipse">
                <a:avLst/>
              </a:prstGeom>
              <a:gradFill rotWithShape="0">
                <a:gsLst>
                  <a:gs pos="0">
                    <a:srgbClr val="003d2e"/>
                  </a:gs>
                  <a:gs pos="100000">
                    <a:srgbClr val="00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716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Administrative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ff99"/>
                    </a:solidFill>
                    <a:latin typeface="Arial"/>
                  </a:rPr>
                  <a:t>Support</a:t>
                </a:r>
                <a:endParaRPr b="0" lang="en-US" sz="20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NYSED/School Library Services Summit June 29 and 30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C0D61-D7B8-42AA-B99C-924E3B8FA73F}" type="slidenum">
              <a:t>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20:37:35Z</dcterms:created>
  <dc:creator> </dc:creator>
  <dc:description/>
  <dc:language>en-US</dc:language>
  <cp:lastModifiedBy> </cp:lastModifiedBy>
  <dcterms:modified xsi:type="dcterms:W3CDTF">2009-04-24T23:26:49Z</dcterms:modified>
  <cp:revision>103</cp:revision>
  <dc:subject/>
  <dc:title>Work Group Question here</dc:title>
</cp:coreProperties>
</file>